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4190B-7AA7-4A08-9EFF-41A9E7FCB8A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12A61-C1C2-49D8-8005-C7F61150AA2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C3F8F-E2A2-4876-9EDC-A1DDB83CB62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7ADE-DE2B-4092-B360-F0DF1B695B6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33DCE-5E01-4123-88FE-945E073449E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5AAF-BC3E-43C3-BB87-F139D718C1D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4C162-31E1-407B-970B-FE9B6737B2A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8CA81-FE16-4362-8AE7-57342D45E96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3B931-6850-41DE-837E-B95D6762045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9FD1D-5918-4255-9A26-BAA5AE69635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821CB-50AC-4E91-AD90-A6371A0F8D7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1E457-198C-4DD4-9364-60F8D8DD005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3EB1A-0628-48D8-919A-A9EA150217D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4E7C6-B941-423F-A684-6794413B143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879B0-F739-4640-9459-FE7631830E8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6A402-1CC7-4BE0-BF9D-53FA635B9EC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97FEE-4606-4804-80B3-68384B7BAD0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67D6-9176-4744-A044-253D19C786C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86BBA-4423-4E6B-B155-C3B546A3F3C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2663E-C3FD-4D28-995E-98BA0D8164F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77B4C-45F1-4221-B555-9CF9CBFCDC2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6A5A-FC84-45F5-BF69-4C93DD8C34A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1F958-3BAB-449E-8CCE-548ECC0E164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BBA9-3BDE-499C-A6E9-02ADD83E4A7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F8759-D2B6-4BEE-8CEF-FD4EE83EBD3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00B93-FDF6-4B9B-A6FF-E8EC4A970AB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50B21-D7C9-4098-9A67-490C2A56CE3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4BC9-774E-4A3D-A05F-1C34617DA07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21998-8232-48D5-A61A-F788160C41D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F894-4FB8-4F19-845D-8CEBCBDC21C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0A24C-DE17-4F28-A45A-756151E1EFB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F8AE-C24E-4E5D-942C-466D2F17A41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0B2E-AB92-4848-A28C-C26FBF6020D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F1C4-425D-446A-9270-F21EB057C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5998-4505-4190-A75B-490DFA136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EC01-3BC0-4F93-9AC9-E854D1E98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5470-213C-455B-8F91-458006497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803E-2748-4BE5-AAFA-06F0D62E8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0647-637E-4E7E-BC5B-B9D92B63B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522C-FF6B-4818-9FDF-D70FB67CD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4EDF-AB8A-4F04-8B7B-7976AD9FE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A666-00AF-4148-B863-50E64171E0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B099-489D-4DE2-87B2-CB9D5C74C1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E73B-47FA-4A17-8C5E-1EC9E8E0B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2874-E294-48F6-9413-625431572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C8D6-0076-4135-A28B-46B456A37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A976-F1B6-4DA2-8CAB-189C7B2D9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BE6C-1A21-4AAA-9360-11F5A36224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7DD7-D626-434B-9246-2AEF9A30F4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7F23-1295-402B-977A-F564D044F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D1B9-508D-4657-9FEA-B65255D4B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5549-3356-4054-A1FA-2428C78DE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E4FE-6ABD-4C28-B5C9-9EA7E2202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B6C8-0A2E-4F39-9C0D-F148E38AD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49C8-FBD5-476A-94A9-CE4ED84D1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9B39-BECE-4609-9C23-13D628EA9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68D4-CFE9-4323-BCBF-6CD24A64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9FCCE-CBCB-40D3-A4DE-3B7956910E32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360"/>
            <a:ext cx="9350280" cy="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1000" cy="25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92B71-056E-4FF8-86C3-AEB284B11604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RT-FS-DATI10/dati10/MIT/MOB_DOLCE/FSC/Progetti%20Presentati/Primo%20Avviso/Figline%20e%20Incisa/154159642506735-1-UP0_BLOB_ARRIVO/Documentazione/Tav%20A04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0A166-76AA-45FF-898C-82CECC16BF7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già finanziati posti a monte e a valle, di cui il progetto costituisce un continu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di lunghezza limitata pari a 640 m, ma di complessa realizzazione prevede solo  tratti in sede propria;  l’intervento risente dei vincoli dettati dall’orografia e  prevede il passaggio in prossimità della strada provinciale per migliorarne la fruibilità; necessario il passaggio in area protetta e, quindi, la relativa autorizzazione (tratto 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9724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LA SCELTA DELLA TIPOLOGIA DI SOTTOFONDO DA UTILIZZARE (tratti 3 e 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’INTERVENTO DOVRÀ ESSERE COMPATIBILE CON L’ADEGUAMENTO DI PERCORSI ESISTENTI ALL’INTERNO DELLA RISERVA NATURALE DI BANDELLA  (VEDI STUDIO DI INCIDENZA TRATTI GIA’ FINANZIA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CORRETTA ATTRIBUZIONE DELLE VOCI DI SPESA RISPETTO ALL’AMMISSIBILITÀ A CONTRIBUTO (Delibera della GR 758/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CFCE9-8CF6-45BF-A966-4E24DC239E5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4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 – Ammissibilità delle spes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8760" y="1655640"/>
            <a:ext cx="91789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373040" y="1655640"/>
            <a:ext cx="7334280" cy="424836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1"/>
          <p:cNvSpPr/>
          <p:nvPr/>
        </p:nvSpPr>
        <p:spPr>
          <a:xfrm>
            <a:off x="193680" y="6195960"/>
            <a:ext cx="7583400" cy="949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Source Sans Pro"/>
              </a:rPr>
              <a:t>SPESE TECNICHE </a:t>
            </a: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fino ad un massimo del 10 % dell’importo a base d’appalto,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comprensivo degli oneri della sicurezz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e 2"/>
          <p:cNvSpPr/>
          <p:nvPr/>
        </p:nvSpPr>
        <p:spPr>
          <a:xfrm>
            <a:off x="7128000" y="3419640"/>
            <a:ext cx="122544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cxnSp>
        <p:nvCxnSpPr>
          <p:cNvPr id="154" name="Connettore 2 4"/>
          <p:cNvCxnSpPr/>
          <p:nvPr/>
        </p:nvCxnSpPr>
        <p:spPr>
          <a:xfrm flipV="1">
            <a:off x="6408720" y="3995280"/>
            <a:ext cx="1008720" cy="22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2DE88-04BC-48E6-A888-4E4218EBEAF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1280" y="1584360"/>
          <a:ext cx="9722160" cy="599112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si tratta di un collegamento tra il tracciato principale del Sentiero della Bonifica con i centri urbani di Sinalunga (stazione) e Bettole, nonché con alcune itinerari di interesse regionale (Lauretana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la realizzazione di due nuovi tratti per un complesso di 12 km passanti da zone a buona valenza storico paesaggistica; da valutare un miglioramento degli interventi proposti, in particolare sul fondo, che sembrano essere insufficienti a garantire la fruizione cicli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NECESSARIO CHIARIRE LO STATO DEL PERCORSO, IN PARTICOLARE I «TRATTI ERBOSI» E LE STRADE BIANCHE, PER COMPRENDERE SE RIDURRE LA LUNGHEZZA DEL PERCORSO MIGLIORANDONE LA QUALIT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NUOVI TRATTI CICLABI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PPROFONDIRE  LE MODALITÀ DI PASSAGGIO SU PONTI ESISTENTI E PER I QUALI NON E’ PREVISTA RIQUALIFICAZIONE PER GARANTIRE LA SICUREZZA DEGLI UTENT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TTRAVERSAMENTI SU SP DA VALUTARE SE NECESSARIO SEMAFORO A CHIAMATA (LIVELLO DI TRAFFIC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SC DEL SANTARELLO A BASSA INTENSITÀ DI TRAFFICO-&gt; CHIARIRE COSA SI INTENDE PER DIMINUZIONE DELLA  VELOCITÀ CONSENT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EBEBB-6790-40D5-8AF4-478C797476E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71280" y="1584360"/>
          <a:ext cx="9722160" cy="581508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0726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percorso lungo ben 23 km di connessione tra le Ciclovie dell’Arno e la Tiberina che ricalca la «ciclovia dei 2 mari» presente nel PRIIM. L’intervento rappresenta il primo stralcio di un progetto denominato “ itinerario tra il fiume Arno e Tevere….” inserito nel piano provinciale della mobilità della Provincia di Arezzo, oltre che nel PRIIM e nel PIT.  La continuità è immediatamente realizzata con la Ciclovia Tibe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il collegamento tra gli abitati di Le Ville, Anghiari e Sansepolcro lungo la vecchia ferrovia dismessa Arezzo-Fossato di Vico; permette perciò il collegamento tra località ad alto potenziale turistico, la stazione di Sansepolcro, polo di interscambio modale, e la Regione Umbria; in parte sede propria e principalmente con tratti promiscui con traffico ridotto; presenti alcune criticità non risol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ESCLUDERE INTERVENTI DI MANUTENZIONE ORDI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NTERVEN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08AF-6FB2-4879-9AAD-573ECE48AFE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1280" y="1584360"/>
          <a:ext cx="9722160" cy="51530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22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779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in fase di realizzazione di Cascina e Pontedera della Ciclopist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nonostante ha lunghezza limitata pari a 5,9 km, prevede sia  tratti in sede propria che in promiscuo; si tratta di un itinerario a valenza cicloturistica, più che di mobilità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7128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CHIARIRE LA TIPOLOGIA DI ATTRAVERSAMENTO DELLA SR TOSCO-ROMAGN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ER LE AREE DI SOSTA UTILIZZARE MODELLO T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3903-1F4A-4E71-96DB-0D708BC412A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342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è funzionale  al completamento di ampi tratti già percorribili a nord (comune di Massa) e a sud (Comune di Forte dei Marmi e seguire); con un intervento di lunghezza molto limitata (0,73 km) rende percorribile con continuità tutto il tracciato litoraneo delle province di Massa e Carrara e Luc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di lunghezza limitata prevede un percorso completamente in sede propria (con larghezza di 3 metri, affiancata da marciapiede pedonale di 1,6 metri) e la realizzazione di un’area di sos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RENDERE COERENTE IL CROPROGRAMMA LAVORI DELLA DOMANDA DI PARTECIPAZIONE E IL CRONOPROGRAMMA DEL PROGETTO (5 MESI INVECE DI 4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DEFINIRE LA TIPOLOGIA DELLE RASTRELLIERE BICI, CHE DOVRÀ ESSERE DEL TIPO “BLOCCATELAIO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A372C-F10A-42ED-9BBF-A452DAB6BF7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08000" y="1474920"/>
          <a:ext cx="9864720" cy="5986440"/>
        </p:xfrm>
        <a:graphic>
          <a:graphicData uri="http://schemas.openxmlformats.org/drawingml/2006/table">
            <a:tbl>
              <a:tblPr/>
              <a:tblGrid>
                <a:gridCol w="986472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a lunghezza complessiva dei tracciati è di 13 km. Da rilevare che si tratta di tratte che congiungono i centri principali in riva destra dell’Arno, come previsto dall’Accordo del 2015 e in accordo con il PRIIM che prevede la Ciclopista in riva destra (allegato C. 9 del PRII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oposto raggiunge i principali centri abitati lungo la ciclopista, creando una rete percorribile in sicurez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IGNIFICATIVITÀ DI ALCUNI TRA I TRATTI PROPOSTI (Castelfranco di Sotto -&gt; prosecuzione dal centro urbano verso la nuova rotonda; Comune di Cerreto Guidi -&gt; tratto di Ripoli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TEGRARE IL CRONOPROGRAMMA GENERALE CON IL  CRONOPROGRAMMA DI CERRETO GU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 LE MODALITÀ DI ATTRAVERSAMENTO IN SICUREZZA DEL PONTE DI MARCIGN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14997-679E-4384-B569-C513276A905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ASI COPROGETTAZION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1440" y="1631880"/>
          <a:ext cx="9721800" cy="498312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731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VALUTAZIONE PROGETTO E INDIVIDUAZIONE 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APERTURA FASE DI COPROGET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SOPRALLUOGHI E APPROFOND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ONSEGNA DEI PROGETTI REVISIO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VALUTAZIONE DI COERENZA dei progetti revisionati con le proposte originarie e IDENTIFICAZIONE DEL CONTRIBUTO nei limiti del budget massimo concedibile già stabil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HIUSURA FASE DI COPROGETTAZIONE CON AMMISSIONE A FINANZIAMENTO DEI PROGETTI E STIPULA DELLE RELATIVE CONVENZIONI tra la regione egli enti benefic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96ED-E369-4760-94C2-D4A2FCA4A86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1680" y="1522440"/>
          <a:ext cx="9721800" cy="528804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risolve l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oblematich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attualmente esistenti nel Comune di Figline e Incisa che impediscono il collegamento in sicurezza tra il tratto realizzato a Figline e il tratto progettato nel Comune di San Giovanni; risolve inoltre il passaggio sul torrente Cesto nei periodi non siccitosi (attualmente esiste un gua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nterventi limitati ma sostanzialmente conformi alle necessità pres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53296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GARANTIRE STESSA FUNZIONALITA’ CICLOVIA ARNO (CICLOVIA SOLE) ; TRATTO  A-A0 – VALUTARE LA POSSIBILITA’ DI ALLARGARE A 3 M; 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E CARATTERISTICHE DELLA PASSERELLA SUL CESTO SIANO TALI DA GARANTIRE LA COERENZA CON IL PD DELLA CASSA DI ESPANSIONE «RESTONE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’ALTEZZA DEL PARAPETTO + CORRIMANO (ALTEZZA DELLE SPALLETTE) SIA PARI AD ALMENO 150 CM (VEDI DM 557/1999 PER SOVRAPPASSI) </a:t>
                      </a:r>
                      <a:r>
                        <a:rPr b="0" lang="it-IT" sz="1600" spc="-1" strike="noStrike" u="sng">
                          <a:solidFill>
                            <a:srgbClr val="ccccff"/>
                          </a:solidFill>
                          <a:uFillTx/>
                          <a:latin typeface="Source Sans Pro Semibold"/>
                          <a:hlinkClick r:id="rId2"/>
                        </a:rPr>
                        <a:t>TAVOL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9239-CAEE-4391-BCF3-E24974D5EBB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1280" y="1584360"/>
          <a:ext cx="9722160" cy="55958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, che coinvolge un tratto piuttosto lungo, risolve il collegamento in sicurezza tra i tratti realizzati di Firenze-Girone e Figline e Incisa Valdarno della Ciclovi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senta varie tipologie di tracciato e sottofondo; potrebbe essere migliorato in alcuni tratti, in particolare nei Comuni di Fiesole e Pontassieve, identificando un tracciato più aderente all’asta fluv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270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POSSIBILITÀ DI IDENTIFICARE UN TRACCIATO PIÙ ADERENTE ALL’ASTA FLUVIALE E CON PENDENZE PIU’ IDONEE AD UN UTENZA CICLOTURISTICA-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GIRONE - COMPIOBBI VEDI QUANTO PROPOSTO IN SEDE DI PFE DELLA </a:t>
                      </a:r>
                      <a:r>
                        <a:rPr b="1" lang="it-IT" sz="1400" spc="-1" strike="noStrike" u="sng">
                          <a:solidFill>
                            <a:srgbClr val="ff0000"/>
                          </a:solidFill>
                          <a:uFillTx/>
                          <a:latin typeface="Source Sans Pro Semibold"/>
                          <a:ea typeface="源ノ角ゴシック Medium"/>
                        </a:rPr>
                        <a:t> CICLOVIA DEL SO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COMPIOBBI - LE FALLE – PERCORSO IN SEDE PROPRIA SUL LATO SINISTRO DELLA SS67/ARGINE ARNO +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ATTRAVERSAMENTO DELL’ABITATO ELLERA SUL VECCHIO TRACCIATO DELLA STATALE, ANCHE IN PROMISCU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LE FALLE – SIECI – PASSAGGIO SULL’ARGINE DEL FIUME  A MARGINE DEI CAM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B3FD7-6AD0-42E9-BC46-BF9C9AB6FD6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ONDO NON ASFALT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06280" y="1446120"/>
            <a:ext cx="73342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C858-0819-4007-8493-D5A2151556A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280" y="1619280"/>
            <a:ext cx="1000944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oi sia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aggravio del rischio per le persone e per l'immobile oggetto dell'intervento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siano adottate nei piani comunali di protezione civile misure per regolarne l'utilizzo in caso di eventi alluvionali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5E03C-3E91-4474-8422-CFF27B683A8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87280" y="1619280"/>
            <a:ext cx="943308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per le person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1184-8951-4630-8DC4-2E6378670BF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47840" y="1619280"/>
            <a:ext cx="917892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13 – Infrastrutture lineari o a rete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Gli </a:t>
            </a:r>
            <a:r>
              <a:rPr b="0" lang="it-IT" sz="2000" spc="-1" strike="noStrike">
                <a:solidFill>
                  <a:srgbClr val="ff0000"/>
                </a:solidFill>
                <a:latin typeface="Source Sans Pro Semibold"/>
              </a:rPr>
              <a:t>itinerari ciclopedonali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possono essere realizzati nelle</a:t>
            </a:r>
            <a:r>
              <a:rPr b="1" lang="it-IT" sz="2000" spc="-1" strike="noStrike">
                <a:solidFill>
                  <a:srgbClr val="ffffff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aree a pericolosità per alluvioni frequenti o poco frequenti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, indipendentemente dalla magnitudo idraulica, nel rispetto delle seguenti condizioni: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venga assicurato il non aggravio delle condizioni di rischio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siano previste le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misure preventive atte a regolarne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l'utilizzo in caso di eventi alluvionali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70FF-B72C-4273-BF3C-FB2958BA413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760" y="1474920"/>
          <a:ext cx="9721800" cy="515448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7650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si tratta di un collegamento tra il tracciato principale della ciclopista dell’Arno, l’abitato di Cavriglia e alcune zone di interesse naturalistico e sportivo, nonché il comune di Gaiole da cui passa l’Eroica (percorso cicloturistico inserito nella pianificazione della provincia di Siena) che però non è collegata direttament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: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prevede la ricucitura di tratti esistenti con tracciati in sede propria e promisc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43972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FUNZIONALITÀ DEL TRATTO CAVRIGLIA-CONFINE CON GAIOLE; nel comune di Gaiole è stato progettato un percorso che da continuità fino al capoluogo comunale, da garantire corrispondenza al confin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CQUISIRE LA DOCUMENTAZIONE PROGETTUALE E GLI ACCORDI INERENTI LA REALIZZAZIONE DEL TRATTO INTERMEDIO NELL’AREA EX MINERARIA ENEL DI SANTA BAR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>MG18492</cp:lastModifiedBy>
  <cp:lastPrinted>2018-04-12T09:36:50Z</cp:lastPrinted>
  <dcterms:modified xsi:type="dcterms:W3CDTF">2019-05-13T20:11:13Z</dcterms:modified>
  <cp:revision>59</cp:revision>
  <dc:subject/>
  <dc:title>Manutenzione del sistema integrato  Ciclopista dell’Arno  - Sentiero della Bonifica</dc:title>
</cp:coreProperties>
</file>